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2F6-6946-4B95-987D-61DCAFB9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D262-A207-4AEE-9AC9-4A80B272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F84F-2BFB-49A8-8B70-3E612009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3B32-74CE-4B5A-AE3F-FA009146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90A8-0B03-4B26-8F47-7E530414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F5A2-F684-4805-928F-EEB0C107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E0F4-8484-47D8-B2C3-56CAE347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46AB-0548-4E94-B6C5-2C25C248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E26-019E-4A32-AA24-5E93831D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26F-0B79-4638-BADD-D9641C9D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1F91-80A8-4C49-A724-AB06E5EC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8578-B03C-4A8C-BF52-B3AEC7B6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9DEE-E76A-4D95-8E54-6B83A470ED36}" type="slidenum">
              <a:rPr b="0" lang="ar-L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68280"/>
            <a:ext cx="9144000" cy="808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Tahoma"/>
                <a:cs typeface="????Boutros Rokaa"/>
              </a:rPr>
              <a:t>ربي في ستر  دماك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َ يَا حَبي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نْ فَدَانِي إِذْ قَضَى فَوْقَ الصَّلِيبِ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دْ وَجَدْتُ فِيكَ غُفْرَانَ ذُنُو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غَطَاءُ الْحُبِّ يَخْفِي لِي عُيُوب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2060640"/>
            <a:ext cx="8991720" cy="479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َ يَا يَسُوع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حَنَانِكَ تُكَفْكِفُ دُمُوع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نْتَ تَحْمِينِي مِنَ الشَّرِّ الْمُرِيعِ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ثمَّ تَهْدِينِي إِلَى الْمَجْدِ الرَّفِيعِ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2060640"/>
            <a:ext cx="8991720" cy="479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َ يَا رَجَائ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رْفَعُ الرَّأْسَ بفَخْرٍ فِي السَّمَاءِ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َكْمُنُ فَرَحِي هُنَاكَ فِي الْعَلاَءِ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مَعَ الأَبْرَارِ أَشْدُو باِلثـَّنَاءِ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2060640"/>
            <a:ext cx="8991720" cy="479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PSE</cp:lastModifiedBy>
  <dcterms:modified xsi:type="dcterms:W3CDTF">2004-03-12T15:50:18Z</dcterms:modified>
  <cp:revision>23</cp:revision>
  <dc:subject/>
  <dc:title>Slide 1</dc:title>
</cp:coreProperties>
</file>